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7479-B480-4318-A6D5-9FEC553A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31C-DE06-4D9A-ADDA-8B25692A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128-3C67-4A83-BD2D-A460097F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CFE4-B136-4C9E-8FB2-95B7EF7B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4915-1D4F-4ED4-86C0-6B7E5C89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65CB-DFCA-4732-A06D-DC393506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1077-02AF-4F02-B452-8665BBA9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2B2F-F24E-4126-B550-35EF4EAA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2FEC-DCC6-4C91-BAE5-F4471BA3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0C70-44BD-4BAD-8895-46AD41CD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43CA-DB50-4921-A6FA-ACD54025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76F-6585-4CEF-9BB9-A4C3EAFA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AD2C-A31E-4A06-BBB1-057661F9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88DE-E92E-497D-8CE3-4683A74B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4448-ED0B-4C78-94E3-1A76AF59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5818-B3F1-4F2D-B6C4-B34E8A00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5B80-FEDA-4AB3-8747-AC41C546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299E6-3791-48F8-9033-777BB8E4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C968B-003D-41AF-AD69-FEC0A658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1DF50-F92C-4580-B65D-246A86A1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EB532-A184-4D6C-A1B4-DCE724F9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DACB7-9478-4340-9E8C-270A7A31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4EE-2524-4E9C-885A-351DC637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E41A1-9E7D-4E83-BDEB-38E2968C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3699F-C16F-476D-94C8-A5A8E091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86D4D-A87E-41BB-9B15-A50D3675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7EEC4-075E-48BF-AFF2-A02F893F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3EC29-940A-443F-9EB4-23DD62E2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61C91-F17B-43DF-99B5-F5161D69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29983-BA81-43C1-95A6-D3D9BA48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4FB0C-0F71-40F5-8992-847842B9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95B62-5664-450E-A25B-749668DC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4B4FF-1104-4034-B90A-B2B66C7D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AECD-AB4E-43F6-A972-B97F3A73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57C7A-E995-44D8-AFCF-65FA0C38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B489E-D28C-4FD7-AEA9-485B9B9A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EF0B9-3142-44AB-8053-D4F19AE9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8F479-1849-4127-A16E-927EFB0F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3C680-A5C2-4343-B1FC-D128E811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EE2F0-E119-493B-BA23-FA9D12D8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80A7F-34C2-48E0-A797-6F6B38C7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6B563-4D5D-44D7-840B-4FB3FE8C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DA634-5C44-45A3-A9A5-F5DF4F40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0A714-89A2-493E-8A0C-26F0970A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931-B576-4484-AE46-7B59AE17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68774-6453-4884-95AF-ADF543C0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767B8-4CBB-464D-9B05-7FAABB8E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40E6B-32F0-47C6-82C0-64E099A0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650C9-6DB6-44F9-99D4-3B5164A6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AE58F-0A54-446B-8CE6-58BC633E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24629-6130-4149-ACD0-72290354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96D14-643B-4629-9414-9A762760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8537F-0B5A-466B-A42C-3DBB72A1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A70B9-CEF8-4FD4-8A8C-17A88CBF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AED24-3162-4A1C-A049-30DC38F5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54B-31D5-408F-8A43-56F43A15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6DBE6-56EF-4904-89F7-770F8249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A782E-0E5F-452A-AFE0-40CCAD57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8131B-2741-4F6F-9395-47B9E8D3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54716-34B5-425C-95DF-4572C8F1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B59EA-B001-49DF-8DC8-7E4E8457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0ABCE-A49C-439A-BEC6-D13A601C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C8F53-D81F-4024-BAC4-6BCABB70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E2958-FF9C-4EDF-8B8F-2F1510EE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4BC1E-632E-47FC-BAEB-093778EF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7AE04-12E6-4121-AB65-E668DDEF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AD1-5A33-48EB-A8B2-16B63F36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A34A7-A003-4C23-9CCE-63E3C88D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479D2-E458-4540-844F-B2D1F5B1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1335B-B815-43BA-B8F5-A3556C8C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CEAFD-C01B-4963-AF3F-9A8F2DEF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77A8F-3449-4264-8D0B-C4C07925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7F434-DA31-44D4-A926-B87056F6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38046-A4DB-462F-A0CE-B49EBA74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B4FD2-B412-418C-8C58-EC93AC85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5D4C8-738D-4975-B3F1-75DF403A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D8D5B-CDB2-4B47-981F-61F604AE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40AE-5A9F-4C40-A16A-42B6CFA5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EF85C-DDDB-4356-A915-E954F9ED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80182-F2ED-4410-9229-4DEBCC17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BD1D9-64DA-4E13-B3AA-3999ED73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29D0E-6417-4D02-A299-0D933561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29707-A991-4CB5-B6A0-B49A46BF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7F689-9720-459D-AA8F-82DA3E77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CB88D-FE1C-49F6-A812-25C6DB5C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F73CE-3FD2-40E1-9F14-AE3A8D72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61E4D-1060-4FE1-B9B2-FB4928B1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96A76-BD78-4E07-8015-C1980B6F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593-1571-4CE7-87E1-0EB7E2EE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E8697-AC9C-412E-95A6-0E3F2FC9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25D93-BF5E-46AC-9E90-2D124F20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B9F90-0FED-4901-B23D-E8F26FEA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D2C5C-1062-4EAC-B76D-5BBD7C32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1E880-064C-4287-9B4B-8198E2BD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45823-DAC4-45D1-B4D8-605486F8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2CED7-AC00-4287-B89F-EF160BB8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3B04-3D6D-40BA-B476-9584F2B96C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0E00-DCBA-4FD8-BE83-DAB1929013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3984-4C3B-4CF2-AD7D-6247463948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C66B-88D9-4819-AE16-B4E86AE93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3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6FAA-05D2-4E8D-8F7A-8148B91E42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7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1CC9-F1DB-4FF1-A28A-666299F472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A623-028A-45AE-A427-29EE788585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8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4438-F0ED-4BF6-BCAC-E66D48196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 Mansi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  <a:ea typeface="Times New Roman"/>
              </a:rPr>
              <a:t>ó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n es Magn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  <a:ea typeface="Times New Roman"/>
              </a:rPr>
              <a:t>í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fica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Claire Cush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3124080" y="4419720"/>
            <a:ext cx="2743200" cy="1763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Mans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3733920" cy="24210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990720" y="22860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mansion es fabulousa y gra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l Comedo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comedor es estupendo, grande, y bel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3962520" cy="2219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 Coci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ocina es fantast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ocina es asombros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2590920" y="3124080"/>
            <a:ext cx="2851200" cy="3171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Sal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a sala es impresionante y gran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367080" y="2481120"/>
            <a:ext cx="2409840" cy="1895760"/>
            <a:chOff x="3367080" y="2481120"/>
            <a:chExt cx="2409840" cy="1895760"/>
          </a:xfrm>
        </p:grpSpPr>
        <p:sp>
          <p:nvSpPr>
            <p:cNvPr id="454" name=""/>
            <p:cNvSpPr txBox="1"/>
            <p:nvPr/>
          </p:nvSpPr>
          <p:spPr>
            <a:xfrm>
              <a:off x="3367080" y="2481120"/>
              <a:ext cx="2409840" cy="189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523880" y="2666880"/>
            <a:ext cx="5034240" cy="3954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l Ba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b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 es fabuloso y lujo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2666880" y="3143160"/>
            <a:ext cx="2819520" cy="2111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cuarto es antiguo y estupen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2971800" y="2590920"/>
            <a:ext cx="3505320" cy="2354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Jard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í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jardin es mag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co y gra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5105520" y="44956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380880" y="4572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Pati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patio es increi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124080" cy="2071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39:38Z</dcterms:created>
  <dc:creator>cushmancla</dc:creator>
  <dc:description/>
  <dc:language>en-US</dc:language>
  <cp:lastModifiedBy>cushmancla</cp:lastModifiedBy>
  <dcterms:modified xsi:type="dcterms:W3CDTF">2011-10-28T12:44:28Z</dcterms:modified>
  <cp:revision>12</cp:revision>
  <dc:subject/>
  <dc:title>La Mansion</dc:title>
</cp:coreProperties>
</file>